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902825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ldImg"/>
          </p:nvPr>
        </p:nvSpPr>
        <p:spPr>
          <a:xfrm>
            <a:off x="954000" y="685440"/>
            <a:ext cx="4950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move the slide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93E89-0259-4035-8CDC-3714E573572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4095A-5F96-4E80-BBB4-9ECF720D4C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954000" y="685800"/>
            <a:ext cx="4950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 2002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se slides where produced by Bill Manning (ISI), Ed Lewis (NAI labs) and Olaf M. Kolkman (RIPE NCC)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E1A3A0-BC4D-4D4F-9591-698B1959DD3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FFA9DA-CFA8-413C-AB73-86AA3880F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754789-C1C7-48B5-9944-4F24473B8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02948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90336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5560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02948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90336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8F9D60-4F66-49F0-92B0-DCDEB240505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722680" y="228240"/>
            <a:ext cx="660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239887-F39A-40F2-96CA-8FDA9091B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02948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90336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15560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02948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90336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0F6BA1-EA8E-42E4-9561-006E5F0D6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CF6B03-6CC1-4044-B7C6-BA3913F47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219444-EAB7-4DAC-B743-62CCDC856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722680" y="228240"/>
            <a:ext cx="660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58EA81-9C89-4679-ADD5-D14C39089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F699DB-04EE-44B5-B2FE-68047BCAC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3BAEDA-AB4B-49E9-87BB-09726E9CC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51500F-F323-4D14-A0F4-3B3A94DD5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8153280" y="6499080"/>
            <a:ext cx="12193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Jump to first page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9353520" y="6551640"/>
            <a:ext cx="142920" cy="15408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9601200" y="6553080"/>
            <a:ext cx="142920" cy="15408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50960" y="6400440"/>
            <a:ext cx="115416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50960" y="6553080"/>
            <a:ext cx="91440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 </a:t>
            </a:r>
            <a:fld id="{FABBDCB5-E80A-47F8-85D8-1A9754498104}" type="slidenum">
              <a:rPr b="0" lang="en-US" sz="9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155600" y="1523880"/>
            <a:ext cx="874728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620720" y="1676520"/>
            <a:ext cx="828216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804760" y="456840"/>
            <a:ext cx="676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3048120" y="6400440"/>
            <a:ext cx="2063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152280" y="6400440"/>
            <a:ext cx="2887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952880" y="5029200"/>
            <a:ext cx="4519800" cy="11286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95000" y="1604520"/>
            <a:ext cx="89128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804760" y="456840"/>
            <a:ext cx="676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6699"/>
                </a:solidFill>
                <a:latin typeface="Arial Narrow"/>
              </a:rPr>
              <a:t>Recursive Server</a:t>
            </a:r>
            <a:endParaRPr b="1" lang="en-US" sz="6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38520" y="1752120"/>
            <a:ext cx="495144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oe Able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abley@isc.or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0.0.127.in-addr.arpa fi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91216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$ORIGIN 0.0.127.in-addr.arpa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$TTL 86400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@        IN     SOA localhost. root.localhost. (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  ; seria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800  ; refres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900  ; re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69120  ; expir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080  ; negative cache tt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NS  localhos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               PTR localhos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0A288D-959C-4A65-9F5F-6D7B99F89FE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ssembling the fil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Here's my directory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4604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10000"/>
                </a:solidFill>
                <a:latin typeface="Courier New"/>
              </a:rPr>
              <a:t>[~/DNS/apricot2003/recursive] edlewis% l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4604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10000"/>
                </a:solidFill>
                <a:latin typeface="Courier New"/>
              </a:rPr>
              <a:t>0.0.127.in-addr.arpa.   localhost.              named.root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directory name and file names will be in named.conf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w I create a named.conf file in the same directory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650D3F-029B-4875-A612-3F30ACCCD5A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named.conf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937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options {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directory "/Users/edlewis/DNS/apricot2003/recursive"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pid-file "/Users/edlewis/DNS/apricot2003/recursive/n.pid"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recursion yes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zone "." {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type hint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file "named.root"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zone "localhost." {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type master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file "localhost.";    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zone "0.0.127.in-addr.arpa." {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type master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file "0.0.127.in-addr.arpa.";    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1EE588-D0AC-41FE-BB02-49751BABFF4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unning the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rom the directo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sudo named -c named.con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4C5633-4761-4F43-A153-15F9F1649A8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esting the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91980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to show it is aliv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dig @127.0.0.1 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Courier New"/>
              </a:rPr>
              <a:t>www.arin.ne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 &lt;&lt;&gt;&gt; DiG 9.2.2rc1 &lt;&lt;&gt;&gt; @127.0.0.1 www.arin.net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global options:  printcmd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Got answer: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-&gt;&gt;HEADER&lt;&lt;- opcode: QUERY, status: NOERROR, id: 16580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flags: qr rd ra; QUERY: 1, ANSWER: 2, AUTHORITY: 10, ADDITIONAL: 0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QUESTION SECTION: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www.arin.net.                  IN      A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ANSWER SECTION: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www.arin.net.           10800   IN      A       192.149.252.17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www.arin.net.           10800   IN      A       192.149.252.16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AUTHORITY SECTION: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arin.net.               10800   IN      NS      arrowroot.arin.net.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(and so on)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Query time: 3066 msec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SERVER: 127.0.0.1#53(127.0.0.1)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WHEN: Wed Feb 19 11:07:05 2003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MSG SIZE  rcvd: 251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2" marL="1040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0BE40F-A920-4491-9805-8BB96F36CA8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gratulations - Your First Server!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's just the beginning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EE7970-04F6-4506-8108-2E4279193E6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verview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cursive Servi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oot server 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ocalhos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0.0.127.in-addr.arpa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d.conf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76E9A0-6D07-40FC-9BD5-E312FB6429E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cursive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Used to lookup data by applica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Needs to know how to reach top of D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lso should stop some queri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localhost, 127.0.0.1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Fil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named.conf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root.hint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localhost zone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0.0.127.in-addr.arpa zone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We'll do named.conf las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E2242B-5E73-4EE1-BF7D-A91A6E7781F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oot Server Lis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ist of the 13 root server recor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ere to get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tp rs.internic.ne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nonymous logi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d domai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et one of these files (they are [nearly] the sam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b.cach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named.roo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named.cach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0D0B71-B9DC-477A-82B5-9CB0DC7D3B3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it looks lik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This file holds the information on root name servers needed to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initialize cache of Internet domain name servers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(e.g. reference this file in the "cache  .  &lt;file&gt;"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configuration file of BIND domain name servers).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This file is made available by InterNIC 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under anonymous FTP as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    file                /domain/named.cache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    on server           FTP.INTERNIC.NET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last update:    Nov 5, 2002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related version of root zone:   2002110501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formerly NS.INTERNIC.NET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.                        3600000  IN  NS    A.ROOT-SERVERS.NET.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A.ROOT-SERVERS.NET.      3600000      A     198.41.0.4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.................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housed in Japan, operated by WIDE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.                        3600000      NS    M.ROOT-SERVERS.NET.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M.ROOT-SERVERS.NET.      3600000      A     202.12.27.33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End of File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DD0148-7036-4263-B8FF-3EDD03CC664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You Do To This Fi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will include it in named.conf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real networks, don't change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ut for learning, we will change i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6AAD20-CDDB-406C-9D16-F1A0F6D25B9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localhos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oopback name in operating syste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eans 127.0.0.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Queries for this shouldn't use recurs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o we will configure a file to define the localhost. zo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ote the "."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EC37E9-C252-41C6-B237-0E7F7BF1FE8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localhost fi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9426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$ORIGIN localhos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$TTL 86400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@        IN     SOA localhost. root.localhost. (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  ; seria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800  ; refres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900  ; re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69120  ; expir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080  ; negative cache tt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NS localhos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A 127.0.0.1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E893D3-479E-49D5-BF90-EBB4850D0F0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verse for localhos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nce we want "localhost -&gt; 127.0.0.1" we want to have "127.0.0.1 -&gt; 127.0.0.1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 need a zone called 0.0.127.in-addr.arp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8580BE-0FCF-4189-8103-19D32155BB4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5T10:35:10Z</dcterms:created>
  <dc:creator>bill manning</dc:creator>
  <dc:description/>
  <dc:language>en-US</dc:language>
  <cp:lastModifiedBy>Marmaduke Wildebeeste</cp:lastModifiedBy>
  <dcterms:modified xsi:type="dcterms:W3CDTF">2003-06-01T20:47:44Z</dcterms:modified>
  <cp:revision>46</cp:revision>
  <dc:subject/>
  <dc:title>Introduction to the DNS syste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6777215</vt:r8>
  </property>
  <property fmtid="{D5CDD505-2E9C-101B-9397-08002B2CF9AE}" pid="3" name="ButtonType">
    <vt:r8>1</vt:r8>
  </property>
  <property fmtid="{D5CDD505-2E9C-101B-9397-08002B2CF9AE}" pid="4" name="Compression">
    <vt:r8>75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ripe.net/disi</vt:lpwstr>
  </property>
  <property fmtid="{D5CDD505-2E9C-101B-9397-08002B2CF9AE}" pid="9" name="LinkColor">
    <vt:r8>16711782</vt:r8>
  </property>
  <property fmtid="{D5CDD505-2E9C-101B-9397-08002B2CF9AE}" pid="10" name="MailAddress">
    <vt:lpwstr>OKolkman@ripe.net</vt:lpwstr>
  </property>
  <property fmtid="{D5CDD505-2E9C-101B-9397-08002B2CF9AE}" pid="11" name="NavBtnPos">
    <vt:r8>1</vt:r8>
  </property>
  <property fmtid="{D5CDD505-2E9C-101B-9397-08002B2CF9AE}" pid="12" name="Other">
    <vt:lpwstr>DNSSEC tutorial Prague</vt:lpwstr>
  </property>
  <property fmtid="{D5CDD505-2E9C-101B-9397-08002B2CF9AE}" pid="13" name="OutputDir">
    <vt:lpwstr>H:\DISI\PRESENTATIONS\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0</vt:bool>
  </property>
  <property fmtid="{D5CDD505-2E9C-101B-9397-08002B2CF9AE}" pid="21" name="VisitedColor">
    <vt:r8>10040268</vt:r8>
  </property>
</Properties>
</file>